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breeze.wav" ContentType="audio/x-wav"/>
  <Override PartName="/ppt/media/image8.jpeg" ContentType="image/jpeg"/>
  <Override PartName="/ppt/media/whoosh.wav" ContentType="audio/x-wav"/>
  <Override PartName="/ppt/media/explod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chimes.wav" ContentType="audio/x-wav"/>
  <Override PartName="/ppt/media/image12.png" ContentType="image/png"/>
  <Override PartName="/ppt/media/image7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9233-A146-475F-BFD8-FB60B366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964-C0AD-468C-B4A2-47098371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00B-AADA-4CA6-A7FD-B9C38B94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507-96E9-4A07-92F4-DFCC684E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CB4B-A2CB-42B8-97AE-0B723B5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08E-0050-41AC-9633-EE150786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1567-0901-460A-85BB-F9689490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33C9-4412-410B-90F8-11742F1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E766-36C3-4B9D-B430-0000FF6E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C343-D032-46F4-9BA9-AB8BE0A1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8BD3-D421-457D-928A-FC7D34D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978-97EB-4826-AA4F-782B4EC2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A3CB-6E99-44AC-8F15-8BC8E94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643A-1BD4-44CD-8103-CA094FC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18B-A16B-49D1-9C40-6586F5F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70E4-89FC-4052-8310-25C1848B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19F1-1200-42B4-AB6E-2E767515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BDA-6EE6-4D62-B041-29740E2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6763-69B5-4372-BCDE-D3B32EA6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B5E-6EDE-4B04-BDD8-2A1BEAEF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0A36-937B-4CF6-8683-7F3939E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4C4-80F4-4803-99EC-D1FF5FD9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AF8-6C7E-447E-B721-DB396E3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494-112A-44FE-A766-55D95F50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46FD-814B-483D-9D56-77525820662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DDF4-DA69-498A-93EA-777870DE9729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tset.com.tw/images/man%20with%20question%20mark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rawbooks.com/123_draw_series/73-images/07_04.gif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Comic Sans MS"/>
              </a:rPr>
              <a:t>Mini Lesso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Comic Sans MS"/>
              </a:rPr>
              <a:t>Lesson on 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06800" y="3733920"/>
            <a:ext cx="109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 you understand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 hope you understand this writing technique a little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re are several different stations that you will have to go to and show your proficienc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go to the differ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ons moving your car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use your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me wisel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complete the 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heckli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that you know where you’ve bee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Beverly Cleary’s Wor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95560"/>
            <a:ext cx="5638680" cy="2705040"/>
          </a:xfrm>
          <a:prstGeom prst="wedgeRoundRectCallout">
            <a:avLst>
              <a:gd name="adj1" fmla="val 49462"/>
              <a:gd name="adj2" fmla="val 71773"/>
              <a:gd name="adj3" fmla="val 16667"/>
            </a:avLst>
          </a:prstGeom>
          <a:noFill/>
          <a:ln w="158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6384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inutes crawled by. The long Oregon dusk turned into night.  The girls turned on the television set to a program about people in a hospital . . 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574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do you think Beverly Cleary meant when she said that the minutes crawled b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60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n you imagine minutes crawling across our classroom floor?  Too Sill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Ramona Forever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went by so slowly for Ramona and her sister that they thought the minutes where crawling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4724280"/>
          <a:ext cx="1479600" cy="14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24280"/>
                    <a:ext cx="14796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666880" y="4114800"/>
            <a:ext cx="5562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verly Cleary was using a writing technique called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5562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personific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ersonification is when you describe nonliving things by using human actions or emo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es this fancy word mea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ill confused?  Don’t worry – let’s look at some examples to help understand personificatio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3280" y="4419720"/>
            <a:ext cx="116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3429000"/>
            <a:ext cx="6553440" cy="220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un Danc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un danced across the sky on the hot summer day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429000"/>
            <a:ext cx="1524240" cy="13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655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sun really danc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Motion origin="layout" path="M 3.33333E-006 -4.44444E-006 C -0.00087 0.11413 -0.00157 0.22825 -0.03212 0.23218 C -0.06268 0.23612 -0.14011 0.02362 -0.18386 0.02362 C -0.22761 0.02362 -0.25643 0.22894 -0.29514 0.23218 C -0.33386 0.23542 -0.37674 0.0419 -0.41615 0.04306 C -0.45556 0.04422 -0.49045 0.24584 -0.53212 0.23866 C -0.57379 0.23149 -0.61997 0.11575 -0.66615 -4.44444E-006 E">
                                      <p:cBhvr>
                                        <p:cTn id="148" dur="5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encil Scream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pencil screamed as the boy turned the handle on the pencil sharpener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0" y="3962520"/>
            <a:ext cx="1512720" cy="2209680"/>
            <a:chOff x="2286000" y="3962520"/>
            <a:chExt cx="1512720" cy="2209680"/>
          </a:xfrm>
        </p:grpSpPr>
        <p:pic>
          <p:nvPicPr>
            <p:cNvPr id="114" name="" descr="cartoon pencil"/>
            <p:cNvPicPr/>
            <p:nvPr/>
          </p:nvPicPr>
          <p:blipFill>
            <a:blip r:embed="rId1"/>
            <a:stretch/>
          </p:blipFill>
          <p:spPr>
            <a:xfrm>
              <a:off x="2286000" y="3962520"/>
              <a:ext cx="1512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895480" y="5029200"/>
              <a:ext cx="30492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48" y="120"/>
                    <a:pt x="96" y="240"/>
                    <a:pt x="144" y="240"/>
                  </a:cubicBezTo>
                  <a:cubicBezTo>
                    <a:pt x="192" y="240"/>
                    <a:pt x="240" y="120"/>
                    <a:pt x="288" y="0"/>
                  </a:cubicBezTo>
                </a:path>
              </a:pathLst>
            </a:custGeom>
            <a:noFill/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9880" y="3581280"/>
            <a:ext cx="2514600" cy="914400"/>
          </a:xfrm>
          <a:prstGeom prst="wedgeEllipseCallout">
            <a:avLst>
              <a:gd name="adj1" fmla="val -45263"/>
              <a:gd name="adj2" fmla="val 100000"/>
            </a:avLst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AHHHH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800600"/>
            <a:ext cx="3733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pencil ever scream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Old Car Groan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old car groaned as it made its way down the long open road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3371760"/>
            <a:ext cx="4190760" cy="2571840"/>
            <a:chOff x="990720" y="3371760"/>
            <a:chExt cx="4190760" cy="257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990720" y="4286160"/>
              <a:ext cx="2438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124080" y="3371760"/>
              <a:ext cx="20574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 can’t make it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520" y="3962520"/>
            <a:ext cx="3124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car ever groan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44583 -0.00139 E">
                                      <p:cBhvr>
                                        <p:cTn id="199" dur="84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trawberry Spok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trawberries seemed to say, "Eat me first!"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93040" y="3429000"/>
            <a:ext cx="1636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164040" y="3505320"/>
            <a:ext cx="2743200" cy="1752480"/>
            <a:chOff x="3164040" y="3505320"/>
            <a:chExt cx="2743200" cy="1752480"/>
          </a:xfrm>
        </p:grpSpPr>
        <p:sp>
          <p:nvSpPr>
            <p:cNvPr id="128" name=""/>
            <p:cNvSpPr/>
            <p:nvPr/>
          </p:nvSpPr>
          <p:spPr>
            <a:xfrm>
              <a:off x="3164040" y="3505320"/>
              <a:ext cx="2743200" cy="1752480"/>
            </a:xfrm>
            <a:prstGeom prst="wedgeEllipseCallout">
              <a:avLst>
                <a:gd name="adj1" fmla="val 78819"/>
                <a:gd name="adj2" fmla="val 42208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4920" y="38862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d0d"/>
                  </a:solidFill>
                  <a:latin typeface="Arial"/>
                </a:rPr>
                <a:t>Eat me first – I am yummy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" y="4952880"/>
            <a:ext cx="342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strawberries really talk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1:07:09Z</dcterms:created>
  <dc:creator>Lynn Medea</dc:creator>
  <dc:description/>
  <dc:language>en-US</dc:language>
  <cp:lastModifiedBy>NPSD</cp:lastModifiedBy>
  <dcterms:modified xsi:type="dcterms:W3CDTF">2008-11-06T14:49:21Z</dcterms:modified>
  <cp:revision>21</cp:revision>
  <dc:subject/>
  <dc:title>PowerPoint Presentation</dc:title>
</cp:coreProperties>
</file>